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A5A8-9481-4540-89B6-E07A1F9D7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2563-727A-4C56-A041-1E6A1FAB2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779-AD89-40A7-80FF-CF49B36A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EF9-8942-4A95-AC14-65492FF4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FF4-36A7-4D58-92A9-CAA724C8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971-4926-4A9E-BDA9-AB557CA8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243-D147-483B-83C6-18327ACE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D88-C6BC-4A03-803C-C228C7EC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924-8A90-407D-B62D-25807192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5CD-6DC7-4999-8CE8-8786D253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476-D51F-4B73-B45D-24D2B272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415-CC13-45CF-B419-B3199878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063-0353-4019-92D7-6EEC9A1F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1E2-46FD-40B8-A6C6-53E317B8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A46F-3F18-43FA-8D09-FF174A3EB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5 Which of the following statements about the manufacture of American cars is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are relatively few plants in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ch plant focuses on only one or a fe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lants are located near each maj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lants are more dispersed now than they were in the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merican cars face little foreign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5 Which of the following statements about the manufacture of American cars is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are relatively few plants in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Each plant focuses on only one or a fe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lants are located near each maj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lants are more dispersed now than they were in the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merican cars face little foreign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1_12b"/>
          <p:cNvPicPr/>
          <p:nvPr/>
        </p:nvPicPr>
        <p:blipFill>
          <a:blip r:embed="rId1"/>
          <a:stretch/>
        </p:blipFill>
        <p:spPr>
          <a:xfrm>
            <a:off x="2590920" y="762120"/>
            <a:ext cx="4038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6 The cheapest way to transport goods over long distances is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oad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6 The cheapest way to transport goods over long distances is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oad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7 Which type of manufacturing requires the lowest level of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utomob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ext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irpla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nsumer electron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7 Which type of manufacturing requires the lowest level of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utomob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Texti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irpla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nsumer electron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8 It is especially important for aluminum processors to locate 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avigable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eap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expensive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jor metropolita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eer brewe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8 It is especially important for aluminum processors to locate 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avigable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Cheap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expensive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jor metropolita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eer brewe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9 Within the United States, manufacturing has been most likely to shift in which of the following dire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nufacturing has tended to sta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west and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1 This country led the world in manufacturing in the nineteenth centu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9 Within the United States, manufacturing has been most likely to shift in which of the following dire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nufacturing has tended to sta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west and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10 Out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ne aspect of vertic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not yet become important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eads to an increase in manufacturing job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upported my most American polit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ohibited by the World Trad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10 Out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ne aspect of vertic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not yet become important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Leads to an increase in manufacturing jobs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upported my most American polit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ohibited by the World Trad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1 This country led the world in manufacturing in the nineteenth centu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2 By the late nineteenth century, this country had mad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ess toward industrial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2 By the late nineteenth century, this country had mad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ess toward industrial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3 Industrialization in the United States bega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ddle Atlantic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ew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3 Industrialization in the United States bega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ddle Atlantic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New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4 Beer brewin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bulk-gain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bulk-reduc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concerned with bu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tributed fairly evenly around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it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4 Beer brewin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 bulk-gain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bulk-reduc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concerned with bu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tributed fairly evenly around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it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3-23T13:32:50Z</dcterms:modified>
  <cp:revision>84</cp:revision>
  <dc:subject/>
  <dc:title>CRS Chapter 4</dc:title>
</cp:coreProperties>
</file>